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1.jpeg" ContentType="image/jpeg"/>
  <Override PartName="/ppt/media/image35.png" ContentType="image/png"/>
  <Override PartName="/ppt/media/image5.jpeg" ContentType="image/jpeg"/>
  <Override PartName="/ppt/media/image4.png" ContentType="image/png"/>
  <Override PartName="/ppt/media/image12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4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743C-8C58-429F-9907-9DF1DF262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9843-AC7B-49CF-8E82-D0781D93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9CDC-43B6-4C18-A5B8-43AE8424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6414-6CFC-45C6-840D-03115F10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5552-F37C-4869-9A37-7405A17D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0F2B-F97E-4D1B-B777-268979A0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435F-317C-450D-A853-2871D52D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13BC-57C3-4DF1-8FB1-0C8112B2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7ED5-A71F-4587-BDBE-0495163A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F7FF-C781-4451-8034-474B58CF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638D-DB5B-4B09-8222-B4ECB7DE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3930-F9A5-44A9-BEF5-C8BF92C3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D89C6-06D3-478C-8BC4-992C25F64A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2000" y="39528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 Narrow"/>
              </a:rPr>
              <a:t>*Série Dark’n’Luke*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0920" y="1763280"/>
            <a:ext cx="70563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rsion alchimie 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24000" y="2246400"/>
            <a:ext cx="885672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79640" y="0"/>
            <a:ext cx="8353440" cy="740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908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79640" y="276120"/>
            <a:ext cx="8137440" cy="70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6000" y="324000"/>
            <a:ext cx="9864720" cy="67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9120" y="973080"/>
            <a:ext cx="9579240" cy="57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0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0160" y="900000"/>
            <a:ext cx="9821880" cy="58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9360" y="1079640"/>
            <a:ext cx="1009620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344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1120" y="138240"/>
            <a:ext cx="8859600" cy="7416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7640" y="34920"/>
            <a:ext cx="8859960" cy="74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912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6000" y="74520"/>
            <a:ext cx="9504360" cy="74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404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iqueau blaise</cp:lastModifiedBy>
  <dcterms:modified xsi:type="dcterms:W3CDTF">2006-10-22T17:11:57Z</dcterms:modified>
  <cp:revision>4</cp:revision>
  <dc:subject/>
  <dc:title>Diapositive 1</dc:title>
</cp:coreProperties>
</file>